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7AD83-A2BB-49C0-9FD9-6E04DABE4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F3855-048F-437B-A69B-F85E9C6C7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freq vocab and concept vo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VT later in 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9346C-870F-4963-BD74-102BA13C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409F9-2E8F-4213-AF40-F7773C3CD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llables- part of a word that contains a vowel or vowel 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sets &amp; Rimes-initial consonant or cluster followed by vowel /spelling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nemes- smallest bit of sound with a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ssess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B7FD4-2FD3-4994-B7EB-D51F164EB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hat principles of the Core Measures Get at these descriptors and which do no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94441-E1F8-48FC-BA7A-86B93445A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? I like drinking lemonade with ice i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eded to deci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E69B8-42FC-4E09-B136-4C108214B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1- Response from research: oral language develops naturally from birth; however, not all children will learn to read without proper instruction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Lyon, 1998; Pressley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ment 2 Response from research: Although dyslexia is influenced by genetics, most children with dyslexia can learn to rea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(Fletcher, Lyon, Fuchs, &amp; Barnes, 2007; Olson, 2006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needs attention in reading that isn’t necessary in speech: concept of letter vs word, directionality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hat Assessments are used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AD1AC-7D61-4627-B8B7-9F877B5E0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eas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pages 250-257 Jigsaw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B409C-48C6-4DE0-B9F7-471ABB290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next slide for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CACE-95E5-417A-BE3B-36CD0C7CD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AEF-3B6D-4C54-98D9-FA3D3F61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3B6-1D70-4251-9BE3-38DFE3C3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834-2164-46E8-9EDC-B4C2E404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3FC-E1D0-4FAC-AC04-9139BE37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0AB-5DE9-4EB5-AF78-0CEBDB6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886-EBED-4CB7-B971-F7C12AD9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A5F-5ADD-47B4-98DA-20A1D278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89A-C136-4152-BD5D-1B3CF28A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CC1-8AB3-4F1C-8AF1-8415770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970-C6E1-455E-8ECB-613B87C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37D-EE09-4D02-926E-04EF090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6E0-90C9-4B85-90ED-AB6AD5E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1911D-1B4E-4060-ACA0-B1B4D3274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1684C-F7E4-4D23-BAE0-B2D063530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G 56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um in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undations of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617840" y="763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762120"/>
            <a:ext cx="8210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2.  Vocabulary and Backgrou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5" descr="santa cruz home visits 052.jpg"/>
          <p:cNvPicPr/>
          <p:nvPr/>
        </p:nvPicPr>
        <p:blipFill>
          <a:blip r:embed="rId1"/>
          <a:stretch/>
        </p:blipFill>
        <p:spPr>
          <a:xfrm>
            <a:off x="3008160" y="3583080"/>
            <a:ext cx="312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12840" y="452520"/>
            <a:ext cx="8623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fusions About Print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AP)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re usually cleared up with a strong Kindergarten experienc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1982880" y="1285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santa cruz home visits 058.jpg"/>
          <p:cNvPicPr/>
          <p:nvPr/>
        </p:nvPicPr>
        <p:blipFill>
          <a:blip r:embed="rId1"/>
          <a:stretch/>
        </p:blipFill>
        <p:spPr>
          <a:xfrm>
            <a:off x="2957400" y="3681360"/>
            <a:ext cx="3594240" cy="26956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660240" y="998640"/>
            <a:ext cx="7950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c0504d"/>
                </a:solidFill>
                <a:latin typeface="Calibri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  <a:ea typeface="ヒラギノ角ゴ Pro W3"/>
              </a:rPr>
              <a:t>3.  Book and Print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92240" y="352440"/>
            <a:ext cx="89517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ank the concepts about words from easiest to hardes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sets &amp; rimes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llables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2520" y="990720"/>
            <a:ext cx="83674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4. Phonological Awareness: sound awareness, rhyming, all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1272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santa cruz home visits 007.jpg"/>
          <p:cNvPicPr/>
          <p:nvPr/>
        </p:nvPicPr>
        <p:blipFill>
          <a:blip r:embed="rId1"/>
          <a:stretch/>
        </p:blipFill>
        <p:spPr>
          <a:xfrm>
            <a:off x="2982960" y="4165560"/>
            <a:ext cx="3181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25360" y="417600"/>
            <a:ext cx="8831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ment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ildren learn upper case letters first and the most well known letter to most children is the letter that starts their nam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ue or Fal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7760" y="885960"/>
            <a:ext cx="850716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5. Alphabetic Princi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          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letter, sound 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65280" y="76320"/>
            <a:ext cx="586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sign in bloomigton"/>
          <p:cNvPicPr/>
          <p:nvPr/>
        </p:nvPicPr>
        <p:blipFill>
          <a:blip r:embed="rId1"/>
          <a:stretch/>
        </p:blipFill>
        <p:spPr>
          <a:xfrm>
            <a:off x="2627280" y="3973680"/>
            <a:ext cx="36673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-43920"/>
            <a:ext cx="883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dictors of Success in R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Understanding the relationship between letters and s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etter knowledge and phonological awar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size of a child’s vocabul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xpressiv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ing read to alo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articipating in interactive rea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he ability to write his/her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venting Reading Difficulties in Young Children 19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book of Early Literacy Research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522360" y="260280"/>
            <a:ext cx="798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ssessments Can We Use to Determine Proficiency for Emergent Literac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pg 288-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gsaw find one area of emergent literacy and an assessment that you use or can read ab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92240" y="417600"/>
            <a:ext cx="8847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ominie Reading and Writ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rimary Assessm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tence Writing and Spell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elling Inventor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ntory of  Letter Knowle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sets &amp; Rim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e Reading Wor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w Me Bo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 Rea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896160" y="5005440"/>
            <a:ext cx="1606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3520" y="38088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IL  IKED  RINK  IN  GLEM  ON  A  DEW  IT HICE  INI 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92240" y="814320"/>
            <a:ext cx="88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of Language Development (TOLD) Test of Language Development – Primary Pre-Kindergarten through fourth gra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 individually administered language battery. Ages: 4-0 through 8-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ministration Time: 1 hour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as 9 subtests that measure different components of spoken languag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icture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Understanding words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ational Vocabula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Mediating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eman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al Vocabular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Defin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emantic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Understanding  Sentence meaning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matic Comple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Sentence 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ntence Imit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Repeating sentenc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Synta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Discrimin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Noticing sound differen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onemic Analysis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egmenting word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Pho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d Articul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Saying words correctl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Phonolog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279360" y="552600"/>
            <a:ext cx="85852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582804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098800" y="0"/>
            <a:ext cx="524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5522760" y="1442880"/>
            <a:ext cx="3516480" cy="287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9680" y="112680"/>
            <a:ext cx="53690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122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Framework A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1000" spc="-1" strike="noStrike">
                <a:solidFill>
                  <a:srgbClr val="800080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42040" y="1617840"/>
            <a:ext cx="3830400" cy="41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324000" y="1189080"/>
            <a:ext cx="489564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al Language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onolog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sounds of th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including word knowledge/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bility to put together or understand proper sent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ckground knowledge + linguistic knowled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nguage comprehensio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23800" y="44280"/>
            <a:ext cx="7601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ramework A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(SEDL, 2008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5440" y="1646280"/>
            <a:ext cx="3651480" cy="4081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635280" y="835200"/>
            <a:ext cx="528948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Written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ncepts about pri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child’s knowledge of form and purpose of written 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oneme awaren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ability to manipulate sounds in langu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lphabetic princip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s and letter combinations represent s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tt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letter appearance and s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xical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knowledge of printed wo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pher knowled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understanding the rules for writing and spel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coding skill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reak sentences into words and units of 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97000" y="254160"/>
          <a:ext cx="8550000" cy="6075360"/>
        </p:xfrm>
        <a:graphic>
          <a:graphicData uri="http://schemas.openxmlformats.org/drawingml/2006/table">
            <a:tbl>
              <a:tblPr/>
              <a:tblGrid>
                <a:gridCol w="4275000"/>
                <a:gridCol w="42750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52280"/>
            <a:ext cx="83232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Learning to read, like learning to talk, is a natural proc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5400" spc="-1" strike="noStrike">
                <a:solidFill>
                  <a:srgbClr val="000000"/>
                </a:solidFill>
                <a:latin typeface="Calibri"/>
              </a:rPr>
              <a:t>True or Fals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600200" y="19836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Defining Lite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2200" y="1036800"/>
            <a:ext cx="805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  <a:ea typeface="Arial"/>
              </a:rPr>
              <a:t>(Based on recommendations of National Reading Panel; National Research Council; National Academy of Scienc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Predictors of reading read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  <a:ea typeface="Arial"/>
              </a:rPr>
              <a:t>1.  Discourse/Conversation/ Compreh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2765520" y="3649680"/>
            <a:ext cx="3230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274680" y="520560"/>
            <a:ext cx="8539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tatement 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ocabulary is important to early reading and gaps exist across race, gender and economic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00" y="324000"/>
            <a:ext cx="887112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16:10:15Z</dcterms:created>
  <dc:creator>Rafferty Michael</dc:creator>
  <dc:description/>
  <dc:language>en-US</dc:language>
  <cp:lastModifiedBy>Rafferty Michael</cp:lastModifiedBy>
  <cp:lastPrinted>2010-09-08T13:27:38Z</cp:lastPrinted>
  <dcterms:modified xsi:type="dcterms:W3CDTF">2010-09-08T17:53:28Z</dcterms:modified>
  <cp:revision>54</cp:revision>
  <dc:subject/>
  <dc:title>RDG 568 Practicum in Reading</dc:title>
</cp:coreProperties>
</file>